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34BB-8683-490F-AC30-B4E3D6402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C063-513A-4422-B7E9-30FE63C4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2118-F835-4EC4-9894-7D5866041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8A35-1327-49CF-88B4-D77CECA76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27A4-509A-42A6-8667-BB49E0B4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5A6E-16E0-4CCD-8F56-7AAA9924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1F44-0010-4479-AE12-F085AE7B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33FB-0547-484A-A236-93F1B0B4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AD2D-963C-4963-8E0A-FF13A290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2313-05EF-4739-BCB3-4752F41F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F1AE-36BC-4DCB-A974-466EF254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70E2-BACE-4AF0-A5CD-EC4D53B4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8343-13D7-43BA-9ABA-C23638BA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F1A9-B26E-4A88-BA6E-6B48415D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5191-6F15-4DAA-9B34-AADF3192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011C-3EBE-477A-A1B9-F75A2471D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03C8-E18D-4FFA-837F-4D53CC6B4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5541-036A-4FFE-AADF-07DDCB44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E83C-2BFE-4BC1-8463-96038103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47A8-EF65-4FA9-8A36-9F18E83B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2709-AF41-4F15-AA2C-A42F672D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35CC-6910-4603-AF07-D3382768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5339-C8F3-44F6-B6E3-B836A617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3542-FE0D-4169-8F2A-48AF76AF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66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07D2-C910-41BE-8991-EF350B6FD51A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7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f3f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9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f3f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8160-8505-42AE-AC53-0C171BA45965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6633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6633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6633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Narrow"/>
              </a:rPr>
              <a:t>Экология жилища и здоровье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79280" y="2060280"/>
            <a:ext cx="878544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Постоянно идет процесс пылеобразования - вытираются ковровые покрытия, осыпается и вышаркивается краска, с улицы попадает пыль и выхлопные газы автомобилей, люди и домашние животные теряют волосы, кожный эпителий, перхоть и т.д.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Пыль является транспортным средством для распространения бактерий и вирусов и способствует возникновению и распространению эпидемий.</a:t>
            </a:r>
            <a:br>
              <a:rPr sz="2800"/>
            </a:b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Пыль в квартире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3040" r="0" b="3040"/>
          <a:stretch/>
        </p:blipFill>
        <p:spPr>
          <a:xfrm>
            <a:off x="324000" y="1844640"/>
            <a:ext cx="2879640" cy="4464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348000" y="2133720"/>
            <a:ext cx="54007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Знаете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ли Вы о том, что в стандартной трехкомнатной квартире в год образуется до 40 кг. пыли.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Человек за сутки вдыхает до 12 тыс. литров воздуха, в одном литре которого содержится до 500 тыс. пылинок.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Пылевой клещ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В 28 гр. пыли живет до 42 000 пылевых клещей, продукты жизнедеятельности которых являются самыми мощными из известных на сегодняшний день аллергенов.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Клещ может стать постоянным спутником человека на протяжении всей его жизни. Основным питанием для клеща являются омертвевшие клетки кожи. В год человек теряет до двух кг. кожи, основная масса которой остается на постельном белье. 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Основную опасность для человека представляют как сами клещи, так и продукты его жизнедеятельности. 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70% аллергических заболеваний дыхательных путей обусловлены присутствием именно этих веществ. </a:t>
            </a:r>
            <a:br>
              <a:rPr sz="2800"/>
            </a:b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 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Пылевой клещ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700000" y="2060640"/>
            <a:ext cx="6443640" cy="445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     </a:t>
            </a: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Избавится от клеща обычными средствами практически невозможно. Губительными для него являются только природные условия - обогащенный озоном воздух, ультрафиолетовое излучение и естественный уровень ионизации воздуха.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266544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Силикоз лёгкого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64000" y="1916280"/>
            <a:ext cx="5045040" cy="42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</a:t>
            </a: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Это профессиональная болезнь шахтеров, аналогичные изменения наблюдаются у жителей городов с высоким уровнем загрязнения воздуха выбросами промышленных предприятий, выхлопными газами автомобилей и сжиганием угля на ТЭЦ. 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64960" y="1916280"/>
            <a:ext cx="3186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Чистый воздух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3588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Высоко ионизированный воздух горных курортов способствовал в начале 20 века излечению от начальных форм туберкулеза, а в настоящее время рекомендуется для лечения и уменьшения приступов бронхиальной астмы и дыхательной аллергии и т.д.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Очевидно - дышать чистым и свежим воздухом полезно, люди, работающие на свежем воздухе, бодрее и здоровее работающих в закрытых и плохо проветриваемых помещениях.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 Narrow"/>
              </a:rPr>
              <a:t>Вопросы для самопроверки:</a:t>
            </a:r>
            <a:endParaRPr b="0" lang="en-US" sz="44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9776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Источники загрязнения воздуха на улице и в помещении?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Методы борьбы с пылью в домашних условиях?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Микроклимат жилища и его воздействие на здоровье человека?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Практическая работа: «Измерение температуры, влажности воздуха в жилых помещениях.»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09:08:09Z</dcterms:created>
  <dc:creator>01</dc:creator>
  <dc:description/>
  <dc:language>en-US</dc:language>
  <cp:lastModifiedBy>uchitel</cp:lastModifiedBy>
  <dcterms:modified xsi:type="dcterms:W3CDTF">2007-01-20T06:45:12Z</dcterms:modified>
  <cp:revision>6</cp:revision>
  <dc:subject/>
  <dc:title>Слайд 1</dc:title>
</cp:coreProperties>
</file>